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8D66-6A5F-40F6-93D8-4E7D32FA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187-8214-4F9C-A3B3-E3A443E8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702-5235-4913-B255-4868D1AE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6C6-374B-4D8E-A39C-53A9D770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B26-C524-4DF9-B403-FD3E6247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95A-83B4-4E82-B336-648B29B8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E7D-86F7-4C7B-AE30-674DDBBA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232E-5D45-4638-9EC7-E8194BDC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04D6-0122-419D-BBA4-2376E70C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2B9-38CA-45E8-97DA-78BDD75D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A0A-46E7-47CD-9737-C638C12B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F23-4D16-4016-A8C4-4D4900B4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5680-181D-40E2-958D-2A3B2EBE81D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dipo 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53733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Marta Sánchez Sánch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edipo-y-la-esfinge"/>
          <p:cNvPicPr/>
          <p:nvPr/>
        </p:nvPicPr>
        <p:blipFill>
          <a:blip r:embed="rId1"/>
          <a:stretch/>
        </p:blipFill>
        <p:spPr>
          <a:xfrm>
            <a:off x="3346560" y="1932120"/>
            <a:ext cx="1957320" cy="455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dipo rey de Sófo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Comic Sans MS"/>
              </a:rPr>
              <a:t>La tragedia de Edipo expone la desesperación del hombre que se ve implicado en su propia investigación. Dando de esta manera referentes de investigación y aventuras en el 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Partes que componen la traged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Se plantea el confli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La vida de los implicados se cru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Se cumple la predicción del oráculo con la muerte de La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Se resuelve en enigma de la esfi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Edipo comienza la investigación en la que más tarde verá que es el principal culp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Desenlace fa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Imá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edipo-esfinge"/>
          <p:cNvPicPr/>
          <p:nvPr/>
        </p:nvPicPr>
        <p:blipFill>
          <a:blip r:embed="rId1"/>
          <a:stretch/>
        </p:blipFill>
        <p:spPr>
          <a:xfrm>
            <a:off x="42840" y="3090960"/>
            <a:ext cx="3267000" cy="396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edipo_re_freud_medaglia_telepatia"/>
          <p:cNvPicPr/>
          <p:nvPr/>
        </p:nvPicPr>
        <p:blipFill>
          <a:blip r:embed="rId2"/>
          <a:stretch/>
        </p:blipFill>
        <p:spPr>
          <a:xfrm>
            <a:off x="5194440" y="3633840"/>
            <a:ext cx="4114800" cy="3425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42pic2"/>
          <p:cNvPicPr/>
          <p:nvPr/>
        </p:nvPicPr>
        <p:blipFill>
          <a:blip r:embed="rId3"/>
          <a:stretch/>
        </p:blipFill>
        <p:spPr>
          <a:xfrm>
            <a:off x="2859120" y="2000160"/>
            <a:ext cx="2730600" cy="496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lucha_edipo"/>
          <p:cNvPicPr/>
          <p:nvPr/>
        </p:nvPicPr>
        <p:blipFill>
          <a:blip r:embed="rId4"/>
          <a:stretch/>
        </p:blipFill>
        <p:spPr>
          <a:xfrm>
            <a:off x="5924520" y="1347840"/>
            <a:ext cx="3048120" cy="2455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Referente en el 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Esta tragedia con final abierto deja la resamantizacion de películas de aventuras e investigación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Poderosa afrod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La interp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Recu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La chica terr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Desafio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matrix"/>
          <p:cNvPicPr/>
          <p:nvPr/>
        </p:nvPicPr>
        <p:blipFill>
          <a:blip r:embed="rId1"/>
          <a:stretch/>
        </p:blipFill>
        <p:spPr>
          <a:xfrm>
            <a:off x="6781680" y="3733920"/>
            <a:ext cx="1994040" cy="264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poderosaafrodita-300a"/>
          <p:cNvPicPr/>
          <p:nvPr/>
        </p:nvPicPr>
        <p:blipFill>
          <a:blip r:embed="rId2"/>
          <a:stretch/>
        </p:blipFill>
        <p:spPr>
          <a:xfrm>
            <a:off x="4191120" y="1981080"/>
            <a:ext cx="2579400" cy="363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958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mparación de Edipo con la interpret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00080" y="982800"/>
          <a:ext cx="7172280" cy="5518080"/>
        </p:xfrm>
        <a:graphic>
          <a:graphicData uri="http://schemas.openxmlformats.org/drawingml/2006/table">
            <a:tbl>
              <a:tblPr/>
              <a:tblGrid>
                <a:gridCol w="2390760"/>
                <a:gridCol w="2390760"/>
                <a:gridCol w="239076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po R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 interpr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tivos que provocan la investigac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peste de Te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cucha la muerte que se planea sobre un jefe de estado africa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ios de la implicacion en la investigac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ndo esdipo se entera de la descripicion fisica de layo y el lugar en que muri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 duda sobre las motivaciones de la protagon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final de la investigac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ipo se arranca los ojos y Yocasta se suici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abandono de la protagonista. Se va del pa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5:07:45Z</dcterms:created>
  <dc:creator>eselza</dc:creator>
  <dc:description/>
  <dc:language>en-US</dc:language>
  <cp:lastModifiedBy>pc</cp:lastModifiedBy>
  <dcterms:modified xsi:type="dcterms:W3CDTF">2010-05-19T16:01:58Z</dcterms:modified>
  <cp:revision>6</cp:revision>
  <dc:subject/>
  <dc:title>Edipo Rey</dc:title>
</cp:coreProperties>
</file>